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4AC-6F2E-4693-988A-D46730C0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B2-8331-4474-A433-DB4C65F9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AB0-2872-4AD5-A7AD-C4FB2EF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AD8-56C9-4EFF-81A6-09AF91B4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1DF-FE6F-4C57-918E-F2BBE364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1F4-560B-4479-8DD3-7FD2BBE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DA8-DFB0-48A7-820D-2FA3977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155-BE2F-4CEC-B385-55EC1094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EE1-D002-4F70-A76D-5F2C76C0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BF6-639F-4BB2-B181-6D27183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1D2-C48B-4961-90DE-69CC51B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A93-64C7-49AA-B050-7CCFA7B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A8C-F77E-4BA8-9BE3-F799DAC0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9ac1"/>
            </a:gs>
            <a:gs pos="50000">
              <a:srgbClr val="99ccff"/>
            </a:gs>
            <a:gs pos="100000">
              <a:srgbClr val="73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Kaylee Olney</cp:lastModifiedBy>
  <dcterms:modified xsi:type="dcterms:W3CDTF">2006-11-08T15:23:30Z</dcterms:modified>
  <cp:revision>10</cp:revision>
  <dc:subject>for RWT lesson "Can You Convince Me?"</dc:subject>
  <dc:title>Persuasive Strategies</dc:title>
</cp:coreProperties>
</file>