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6A5-71D4-4300-8661-DAC2CF32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42B-E4DE-4BAC-B4DE-0668208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11A-DDF0-4A29-9D45-2090D31A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57E-A1A9-46F4-8A56-35F4EE33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693-0F9A-464F-AA2A-51CFBB9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A1F-1DCF-49F8-A18E-CEA6BE5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17D-E6FE-44DB-9CFF-4A8699A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078-CF37-425D-B973-E2FD205D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E80-1AA3-4BC8-813B-0DE0EA7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8F2-9C72-432E-906A-6FF0C57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E00-EDC4-455D-A1C1-824ADF1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73C-1813-4461-95D4-FD70937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E92B-01F3-4C86-B068-5F1E7A98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Kaylee Olney</cp:lastModifiedBy>
  <dcterms:modified xsi:type="dcterms:W3CDTF">2006-11-08T15:23:30Z</dcterms:modified>
  <cp:revision>10</cp:revision>
  <dc:subject>for RWT lesson "Can You Convince Me?"</dc:subject>
  <dc:title>Persuasive Strategies</dc:title>
</cp:coreProperties>
</file>