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DF4-2996-47E2-8346-0AC91EEF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1CF-53D5-4D1E-AF5F-8CEC8A4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AA1-07FF-4A8E-AB22-6723AFFB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BE5-FACE-4A9B-B75F-75165096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2DD-36A9-4175-AA76-71AC3B0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61B-ACCA-4E11-B42A-329E064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75E-E063-43D5-A7B4-7F81DFA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825-317F-4430-AB4A-9FB17D5B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C47-F595-4158-89E2-E77EC44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918-8260-47DF-BF34-D28E460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CED-CE14-44F4-ABB3-63FE8EEB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75-98DE-44D1-9209-6C47D197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34E1-0B56-4B49-9972-E7B99AE1B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Kaylee Olney</cp:lastModifiedBy>
  <dcterms:modified xsi:type="dcterms:W3CDTF">2006-11-08T15:23:30Z</dcterms:modified>
  <cp:revision>10</cp:revision>
  <dc:subject>for RWT lesson "Can You Convince Me?"</dc:subject>
  <dc:title>Persuasive Strategies</dc:title>
</cp:coreProperties>
</file>