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393-4AAC-40F2-A97B-BDF4885D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42A-A922-4C80-B639-94306F81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8DC-3362-4C54-97E3-7AE7BDE9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B5CD-4F98-4F93-B3B3-6BAFD6E8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F05-3CB1-4702-AACD-6003BD32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3E6-2599-4ECF-A9F2-F886EBBC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DBA-F99D-4778-9928-674C676A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1AA-7D38-4AB2-B23D-BB6729BB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79D-5080-4770-9245-AB0A7748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C7E0-B6DF-40D1-948A-68263A70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01E-CABB-4B81-BA3E-295E6081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0E9-91DB-4995-9D02-68F65112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8850-DE1A-498E-8596-A4C22E99D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ersuasive Strateg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5943600"/>
            <a:ext cx="2647800" cy="685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75400" y="5867280"/>
            <a:ext cx="51872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right 2006 IRA/NCTE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adWriteThink.org materials may be reproduced for educational purp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ages ©2006 Microsoft Corpor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la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009960" cy="250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320040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I am going to try to convince you that chocolate is a healthy sn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19240" y="190512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te your argu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ig Na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08680" y="3352680"/>
            <a:ext cx="2228760" cy="2895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88620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Former U.S. president Bill Clinton thinks that junk food should be taken out of vending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8288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mportant people or experts can make your argument seem more convinc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og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3124440" cy="312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3429000"/>
            <a:ext cx="350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 Snickers bar has 280 calories and 30 grams of sugar. That’s not very h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828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acts, numbers, and information can be very convinc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th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84880" y="3124080"/>
            <a:ext cx="228420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335268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Your donation might just get this puppy off the street and into a good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828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tting people to feel happy, sad, or angry can help your argu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th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2819520" cy="2814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36576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Believe me! I’ve been there before. I’m just like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82880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people believe and trust in you, you’re more likely to persuade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ai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2246400" cy="3124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38862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This is a one-time offer. You can’t get this price after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8288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y to convince your audience that this issue is so important they must act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217476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327672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 recent study found that students who watch TV during the week don’t do as well in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8288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ing reliable research can help your argument seem convinc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0:39:45Z</dcterms:created>
  <dc:creator>RWT author</dc:creator>
  <dc:description/>
  <dc:language>en-US</dc:language>
  <cp:lastModifiedBy>Kaylee Olney</cp:lastModifiedBy>
  <dcterms:modified xsi:type="dcterms:W3CDTF">2006-11-08T15:23:30Z</dcterms:modified>
  <cp:revision>10</cp:revision>
  <dc:subject>for RWT lesson "Can You Convince Me?"</dc:subject>
  <dc:title>Persuasive Strategies</dc:title>
</cp:coreProperties>
</file>